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0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0365-58E4-4B00-A6FB-4BABDAC584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59AB-B06B-4912-9E03-0354C30FA5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D4FB-96CE-42CC-8990-C3A96CE7C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836D-FC4E-476C-97F9-CEFF8196C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986-275A-4223-B02E-1A3EC6CD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C54-12CA-4C89-9444-FFCEA56D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8B1-69DF-499A-93B3-A0F1B913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85C-C642-4BC4-83FD-9814FC03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F980-4300-42DF-82D1-7729A002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AA07-FC08-4473-B9AC-DE278B4C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10A3-8291-4FE8-A0F4-6E59E444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2409-8F65-4388-8317-F8B44647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569E-7082-408A-9463-17DE0277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4377-1DAC-4AAB-B7DD-D6B1AC9B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BD3B-F8BC-48E5-B2F9-94E9E93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D46-3315-4618-B6AA-E4F96B19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2F24-4D27-4184-99A4-A5F27B00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FAD1-0D6C-4F3C-A474-737608F2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82A3-53B6-454C-9323-8C28428F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5147-9114-4F2F-B4BE-30BAB29E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919D-1452-41EB-83C1-3972857B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20B-B381-422B-938D-97E9A86C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A1C-65A9-4A87-867B-A56E1716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337-8FAA-450F-8B33-AA809649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9E10-7428-4C3E-89B9-CD9C805F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A2F-F0F0-4C21-98E2-7A73858A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AE7-0103-43E0-890A-DE051DE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96B-4698-4C82-9B46-51B9E823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A3AC-D572-4631-AA41-EEDBAF9EE0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C7A7-29E0-434F-89BC-3430FFEB11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1523880" y="2301840"/>
            <a:ext cx="58676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228600" y="2666880"/>
            <a:ext cx="4005360" cy="39718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724280" y="2666880"/>
            <a:ext cx="411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8487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га во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Содержимое 3" descr="marteysussatelites_thumb.jpg"/>
          <p:cNvPicPr/>
          <p:nvPr/>
        </p:nvPicPr>
        <p:blipFill>
          <a:blip r:embed="rId1"/>
          <a:stretch/>
        </p:blipFill>
        <p:spPr>
          <a:xfrm>
            <a:off x="1219320" y="2133720"/>
            <a:ext cx="6018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143000" y="228600"/>
            <a:ext cx="63244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3444840"/>
            <a:ext cx="3124080" cy="31082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0384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Ирина</cp:lastModifiedBy>
  <dcterms:modified xsi:type="dcterms:W3CDTF">2018-04-12T00:35:02Z</dcterms:modified>
  <cp:revision>40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